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D37D-0180-4B73-8742-A0EFBC8DC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6FBC-2E37-4A7C-A934-9F33EDD6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EFA5-D7CD-4BE2-A061-155768635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4228-8903-47CE-AB61-94C6A5A8A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2B92-1115-4159-9B44-A76C03A69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7E7DC-E634-4AF3-AC05-53D09457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02F8-0B6C-4DE9-AFB8-73D37A31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2B1A-3B50-4E0C-9172-31BF146C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16BC-8134-4086-B456-3FF5819A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529A-56CA-479A-A852-D5BCB237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A9FB-FB8F-4B7B-B1BC-4AA21AA6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C96D-F507-4815-B395-40AC9D07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8CBF-EBE5-4081-89F4-B7FED116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D522-6792-4367-BE34-EB5431E3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11A9-DC95-4D15-A011-77402B77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A885-BF50-40B5-91B5-14DBC373D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3DA5-055A-4E31-9141-4682562CB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9D373-9A02-4628-8E23-BC02A8CA4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8B58F-FA56-48EA-8C9A-79C43385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0519A-4B80-4751-800A-2DA909C6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6C5BE-0B64-409D-BD91-5CC6604F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8902A-7664-47A8-A22F-A78E86A9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B10F-8912-4C8A-B867-DE714E3D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799C6-BBA7-4370-BA46-AF8B4078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FF6B3-0153-42F6-B5D7-68109D59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2D936-925D-433B-ADD8-30F84C4D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17AAF-0514-4114-A393-EEB6AB3F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C16D0-4BBA-48D7-A78C-1B4530AB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9EF9F-F4E1-4D8E-88A0-53D9E7C98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E7096-58BB-4DC3-A3D3-07F9F3602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A65B6-180B-46EB-9CFF-D013D36D2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0B52C-1299-46E4-9616-3FA50614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32833-83E0-4AB8-8595-B6AFCB4F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0BDA-B91E-4A94-9AD2-5BE5997A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7C8AB-B8C9-473F-A884-7B4F8C64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CAD81-EC59-4989-9187-551350CE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290FC-B9C6-470E-8FE9-55824247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B9A45-ED5C-47EE-8310-580AF1AF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3B180-80FB-441B-ACCE-DFBC3BBC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46AC4-7499-4DE8-B7D3-4C06C4D1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2EDD2-7800-4F15-BF72-4B97D93A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5EC5A-E05A-4F08-B6D1-4B6BBBA49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B2FC0-3120-4ADA-BCC1-0514609BF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F4183-345D-44D5-A5AD-92FA81187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98F4-CA7F-492F-8953-FAADDF94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FD72E-4C32-4240-BF4D-18DAEEE7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D975D-65D2-49E8-B991-63F5217C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76300-CC62-4A45-8F7F-64444313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449B3-EE35-4E62-91F2-9E0A98F8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B04B7-4D51-4452-8009-C091DBB1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7674F-A5F1-4EC9-B59B-C45B2556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C6156-3E02-4538-B406-1E24C79B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55D99-C559-4CD9-8835-CD0D144D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8A33F-E7FC-4CF6-A453-F62FD72E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89C68-91BF-4707-8656-AECCB799D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6368-8E42-412A-A18C-5230CDC6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E4E01-423F-43E7-985A-5F9925A33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59A7A-F069-4036-842F-0C741A42B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743C1-EBFA-42DB-ACF7-D6961285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A6CC5-3F4B-486E-B8F6-F09002C8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3E3CD-B141-4666-95DC-2D4733A0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C83FF-385B-4CAC-B368-94CE2E9F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6EDA8-186E-4331-B4BB-029274F2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2B85A-F32D-4B21-87E1-1CB04B27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DCEE2-9B3C-4093-AD40-D4405FE3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7D2C5-DC93-4BDD-9F2D-9A982FB0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EBB7-4956-4026-8420-ECE7E71B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53F2F-902D-4033-AC31-E9BF6E8C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46F2A-6DE0-413D-9536-2DDAE732C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310E3-10E3-4E21-B00F-AB45F60DD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BE194-9291-4BA1-ACF0-63BAD90F7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12F3C-99D7-4655-AA82-E8A57433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5AA9B-8BE2-402C-9852-49F8F0A2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56988-4D96-43DD-A2BC-A397F7DA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6A530-3728-410A-B7D7-3ACE92F2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F7057-A9C4-4F72-8667-875DEE50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4FAD5-1FBF-4FE3-9672-F30837EB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AAB7-18DC-4FCA-B298-96543F8C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97414-8100-4C4E-A99D-2CA9D53E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8C2FD-F70F-412C-8CD6-BD557F48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AD767-8C76-4B60-8FF1-1CC67BA1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6D719-EAB2-45B1-B4D1-FC7E91F3A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484E7-F81B-40DB-B353-D08C2A81B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C4779-8EF9-4FF0-A6E9-EC8F6E8D9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BF374-10E0-4B3B-A4DC-D2588959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98DAC-C9E6-4EDF-A263-27E62DA7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6F7B1-AC70-4FF2-8BC4-E5853CB7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28BB1-4865-43B5-94B9-B3803BD2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3072-D13A-48A5-A99B-A61A52A5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BCA03-9445-4886-9400-28700700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1D914-90A6-4910-9405-0F0537EA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B1B1C-F1C9-421F-948D-2868DCD2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EA3DC-74E6-4365-8000-33DC347D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6B4AD-1430-4E8F-93CF-7AE75118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793E5-3A63-4750-BA15-4547BAE56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AEFE9-1F2C-4372-801E-453B74AAA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0156-25F7-4CE0-BAA4-0914F5A350F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F452-7900-4955-A435-D3C9CB36A59E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ED5E-56E4-4129-81C7-656F6192E33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BFEA-A684-4C79-96AC-CB8CD263B0A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CE5A-E0D4-4BB3-87A6-98B2BF94CA8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C569D-D406-465B-AFA6-21E8FFF0904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51E9-72D0-4F60-98F8-47A9D9652BF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33C2-57B2-4F89-8364-181CAA1190ED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822320"/>
            <a:ext cx="8089920" cy="18478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914400" y="762120"/>
            <a:ext cx="32670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volves addition or loss of one or more nucleotid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lled a frameshift mut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n be more of an issue than substitutions as is changes the reading fram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sider the sentence: “THE CAT ATE THE RAT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lete “A” of CA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CTA TET HER 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129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also possible to change entire segments of a chromosom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re are four types: deletion, duplication, inversion, and transloc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agment of chromosome lost during replic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"/>
          <p:cNvPicPr/>
          <p:nvPr/>
        </p:nvPicPr>
        <p:blipFill>
          <a:blip r:embed="rId2"/>
          <a:stretch/>
        </p:blipFill>
        <p:spPr>
          <a:xfrm>
            <a:off x="838080" y="2514600"/>
            <a:ext cx="73868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n the piece broken off in a deletion reattaches to a homologous chromosom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"/>
          <p:cNvPicPr/>
          <p:nvPr/>
        </p:nvPicPr>
        <p:blipFill>
          <a:blip r:embed="rId2"/>
          <a:stretch/>
        </p:blipFill>
        <p:spPr>
          <a:xfrm>
            <a:off x="1752480" y="2362320"/>
            <a:ext cx="556272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n the fragment reattaches to original chromosome, but has “flipped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" descr=""/>
          <p:cNvPicPr/>
          <p:nvPr/>
        </p:nvPicPr>
        <p:blipFill>
          <a:blip r:embed="rId2"/>
          <a:stretch/>
        </p:blipFill>
        <p:spPr>
          <a:xfrm>
            <a:off x="609480" y="2362320"/>
            <a:ext cx="822960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gment reattaches to a nonhomologous chromosom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" descr=""/>
          <p:cNvPicPr/>
          <p:nvPr/>
        </p:nvPicPr>
        <p:blipFill>
          <a:blip r:embed="rId2"/>
          <a:stretch/>
        </p:blipFill>
        <p:spPr>
          <a:xfrm>
            <a:off x="914400" y="2514600"/>
            <a:ext cx="73026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have seen that the order of nucleotides dictates the amino acid express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a single base pair is changed in the genetic code, a different amino acid can resul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is called a point mut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re are two types: substitutions and insertions or dele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nucleotide and its complement get replaced by another pai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ften this is a silent mutation – occurs on an intron, or does not change amino acid express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example, if coding strand is changed from CGC to CGT, mRNA changes from CGC to CG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oth codons yield an arginin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609120"/>
            <a:ext cx="8229600" cy="53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the mutation does change the amino acid, it is usually a missense mut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kes sense, but not the right sen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e of the most commonly cited examples of this is sickle-cell disea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762120" y="1347840"/>
            <a:ext cx="761976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2666880" y="68580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rare cases, it can change to a stop codon, leading to a premature termination of the prote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is a nonsense mut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153280" cy="60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01:27:14Z</dcterms:created>
  <dc:creator>ED18</dc:creator>
  <dc:description/>
  <dc:language>en-US</dc:language>
  <cp:lastModifiedBy>ED18</cp:lastModifiedBy>
  <dcterms:modified xsi:type="dcterms:W3CDTF">2012-03-13T16:50:51Z</dcterms:modified>
  <cp:revision>33</cp:revision>
  <dc:subject/>
  <dc:title>Mutations</dc:title>
</cp:coreProperties>
</file>